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EC9-E351-49ED-A982-27830815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F2F-DD8E-4F99-A8B8-82868670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E6C-385E-485C-9D3F-BD625483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A1E-B1E9-49FC-AD6D-660DFE76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9E9-4B20-4138-B022-362EABF6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949-D948-4091-A1C1-13582F15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93B-DF47-4E60-920E-AFCDAED9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E60-6B31-448C-9DF6-499F5FC2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C32-02A8-4A9B-B3D9-37A33405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6D2-B22B-4481-9BA0-EE67BD3D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3E0-2039-4DBF-9A5C-FBAB0ADE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C2D-C2B7-4B59-B90B-A9669086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8AC3-8665-4BD1-AE5D-E0612697E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00"/>
                </a:solidFill>
                <a:latin typeface="Kristen ITC"/>
              </a:rPr>
              <a:t>OFF-CAMPUS IN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owner\AppData\Local\Microsoft\Windows\Temporary Internet Files\Content.IE5\QXY2AMDI\MC900060254[1].wmf"/>
          <p:cNvPicPr/>
          <p:nvPr/>
        </p:nvPicPr>
        <p:blipFill>
          <a:blip r:embed="rId1"/>
          <a:stretch/>
        </p:blipFill>
        <p:spPr>
          <a:xfrm>
            <a:off x="5624640" y="574560"/>
            <a:ext cx="2041560" cy="257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owner\AppData\Local\Microsoft\Windows\Temporary Internet Files\Content.IE5\R6K5S5FH\MC900018397[1].wmf"/>
          <p:cNvPicPr/>
          <p:nvPr/>
        </p:nvPicPr>
        <p:blipFill>
          <a:blip r:embed="rId2"/>
          <a:stretch/>
        </p:blipFill>
        <p:spPr>
          <a:xfrm>
            <a:off x="1720800" y="800280"/>
            <a:ext cx="1905120" cy="2118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owner\AppData\Local\Microsoft\Windows\Temporary Internet Files\Content.IE5\R6K5S5FH\MC900198043[1].wmf"/>
          <p:cNvPicPr/>
          <p:nvPr/>
        </p:nvPicPr>
        <p:blipFill>
          <a:blip r:embed="rId3"/>
          <a:stretch/>
        </p:blipFill>
        <p:spPr>
          <a:xfrm>
            <a:off x="1192320" y="3886200"/>
            <a:ext cx="2349360" cy="2779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owner\AppData\Local\Microsoft\Windows\Temporary Internet Files\Content.IE5\QXY2AMDI\MC900084090[1].wmf"/>
          <p:cNvPicPr/>
          <p:nvPr/>
        </p:nvPicPr>
        <p:blipFill>
          <a:blip r:embed="rId4"/>
          <a:stretch/>
        </p:blipFill>
        <p:spPr>
          <a:xfrm>
            <a:off x="5334120" y="4160880"/>
            <a:ext cx="2622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Diagram 6" descr=""/>
          <p:cNvPicPr/>
          <p:nvPr/>
        </p:nvPicPr>
        <p:blipFill>
          <a:blip r:embed="rId1"/>
          <a:stretch/>
        </p:blipFill>
        <p:spPr>
          <a:xfrm>
            <a:off x="987480" y="822240"/>
            <a:ext cx="69436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c00000"/>
                </a:solidFill>
                <a:latin typeface="Kristen ITC"/>
              </a:rPr>
              <a:t>WHY OFF-CAMPUS</a:t>
            </a:r>
            <a:r>
              <a:rPr b="1" lang="en-CA" sz="44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Enhance Essential and Workplace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Connect school with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Find career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Earn a positive reference from an emplo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Possible contact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future 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Earn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owner\AppData\Local\Microsoft\Windows\Temporary Internet Files\Content.IE5\MGPQKUQY\MC900053432[1].wmf"/>
          <p:cNvPicPr/>
          <p:nvPr/>
        </p:nvPicPr>
        <p:blipFill>
          <a:blip r:embed="rId1"/>
          <a:stretch/>
        </p:blipFill>
        <p:spPr>
          <a:xfrm>
            <a:off x="5638680" y="4317840"/>
            <a:ext cx="243360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Kristen ITC"/>
              </a:rPr>
              <a:t>Work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Work Experience 15, 25, 35</a:t>
            </a: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Student /work experience coordinator/employer set up a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Work may be paid or un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Supervisor and student discuss duties and safety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Employer, student, parent and school division  sign a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Evaluations completed by employer and Work Experience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Students may earn up to 30 credits while in 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(only 15 may count toward a high school diplo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CTR 1010 (Job Preparation) required  (HCS 3000 in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j0186092"/>
          <p:cNvPicPr/>
          <p:nvPr/>
        </p:nvPicPr>
        <p:blipFill>
          <a:blip r:embed="rId1"/>
          <a:stretch/>
        </p:blipFill>
        <p:spPr>
          <a:xfrm>
            <a:off x="6629400" y="0"/>
            <a:ext cx="1820880" cy="17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j0186098"/>
          <p:cNvPicPr/>
          <p:nvPr/>
        </p:nvPicPr>
        <p:blipFill>
          <a:blip r:embed="rId2"/>
          <a:stretch/>
        </p:blipFill>
        <p:spPr>
          <a:xfrm>
            <a:off x="7391520" y="4800600"/>
            <a:ext cx="14778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1480"/>
            <a:ext cx="956160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Kristen ITC"/>
              </a:rPr>
              <a:t>GREEN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The Green Certificate program is a collaborative ventur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Alberta Agriculture, Food and Rural Development, and Alberta Lea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Most students live on family f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Nine Strands: Cow-Calf, Dairy, Feed Lot Beef, Field Cro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Swine, Sheep, Irrigated Crop  Bee Keeping  and Equ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Green Certificate students make arrangements with a trainer, often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Orientation with student, trainer and Green Certificate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Students are tested three times a year at a testing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16 credits in Green Certificate (all 30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Each school/division determines how the fee will be paid.</a:t>
            </a: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AGR  3000 required in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j0233188"/>
          <p:cNvPicPr/>
          <p:nvPr/>
        </p:nvPicPr>
        <p:blipFill>
          <a:blip r:embed="rId1"/>
          <a:stretch/>
        </p:blipFill>
        <p:spPr>
          <a:xfrm>
            <a:off x="6629400" y="4287960"/>
            <a:ext cx="236232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Kristen ITC"/>
              </a:rPr>
              <a:t>Registered Apprenticeship Program (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Collaboration between the Apprenticeship and Industry Training  and the Department of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Apprenticeship program for high school students. Students must be working toward a High School Dipl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More than 50 trades in Alberta that require apprenticeship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- Choose a trade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- Find an 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- Work with Off-Campus coordinator to set up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- 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Off-Campus coordinator and employer complete eval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RAP students may work off up to 1000 hours of first year apprenticeship and earn up to 40 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j0217526"/>
          <p:cNvPicPr/>
          <p:nvPr/>
        </p:nvPicPr>
        <p:blipFill>
          <a:blip r:embed="rId1"/>
          <a:stretch/>
        </p:blipFill>
        <p:spPr>
          <a:xfrm>
            <a:off x="7238880" y="3124080"/>
            <a:ext cx="16797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Kristen ITC"/>
              </a:rPr>
              <a:t>Summer Health Inter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Kristen ITC"/>
              </a:rPr>
              <a:t>Coordinated by Careers the Nex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Kristen ITC"/>
              </a:rPr>
              <a:t>Supports career exploration choices in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Kristen ITC"/>
              </a:rPr>
              <a:t>Students have the opportunity to be involved in health care while in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Kristen ITC"/>
              </a:rPr>
              <a:t>Students work in Health Care facilities for six weeks in the 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Kristen ITC"/>
              </a:rPr>
              <a:t>Most in Grade 11, a few after Grade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Kristen ITC"/>
              </a:rPr>
              <a:t>Students earn credits, most are paid an honora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7696080" y="1219320"/>
            <a:ext cx="1163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do employers really w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y want workers w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up to work on the days and times they are ass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the best they can on al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things to do when they are finished assign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e grat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5:13:53Z</dcterms:created>
  <dc:creator>nthompson</dc:creator>
  <dc:description/>
  <dc:language>en-US</dc:language>
  <cp:lastModifiedBy>Norma.Thompson</cp:lastModifiedBy>
  <dcterms:modified xsi:type="dcterms:W3CDTF">2010-10-21T16:40:09Z</dcterms:modified>
  <cp:revision>46</cp:revision>
  <dc:subject/>
  <dc:title>     </dc:title>
</cp:coreProperties>
</file>